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6.wmf" ContentType="image/x-wm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16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904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16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904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836360" y="399600"/>
            <a:ext cx="7056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16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7904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0492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16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7904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36360" y="399600"/>
            <a:ext cx="7056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arner.org/jnorth/tm/ReadStrats_20Best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arasota.k12.fl.us/sarasota/interdiscrdg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sjournal.com/bookdaddy/Home_Photo_books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989240"/>
            <a:ext cx="864576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Reading in the Content Areas</a:t>
            </a:r>
            <a:br>
              <a:rPr sz="3200"/>
            </a:br>
            <a:r>
              <a:rPr b="1" lang="uk-UA" sz="3200" spc="-1" strike="noStrike">
                <a:solidFill>
                  <a:srgbClr val="0033cc"/>
                </a:solidFill>
                <a:latin typeface="Kristen ITC"/>
              </a:rPr>
              <a:t>Presented by: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 Justine Braatz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Extra Hitter – Beverly Schewe</a:t>
            </a: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We Are All Reading Teac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ven today, the mantra “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Every teacher is a teacher of reading,” 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s met with resistance.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any content area teachers see their primary responsibility as preparing young adolescent and teenagers in their subject area for high school and college, and 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they have difficulty accepting that they should have some responsibility for adolescents’ reading development.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(Vacca, 20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d4d4d"/>
                </a:solidFill>
                <a:uFillTx/>
                <a:latin typeface="Kristen ITC"/>
              </a:rPr>
              <a:t>Brain Rule #3</a:t>
            </a:r>
            <a:r>
              <a:rPr b="0" lang="en-US" sz="6000" spc="-1" strike="noStrike">
                <a:solidFill>
                  <a:srgbClr val="4d4d4d"/>
                </a:solidFill>
                <a:latin typeface="Kristen ITC"/>
              </a:rPr>
              <a:t>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d4d4d"/>
                </a:solidFill>
                <a:latin typeface="Kristen ITC"/>
              </a:rPr>
              <a:t>We don’t </a:t>
            </a:r>
            <a:r>
              <a:rPr b="0" lang="en-US" sz="6000" spc="-1" strike="noStrike">
                <a:solidFill>
                  <a:srgbClr val="0033cc"/>
                </a:solidFill>
                <a:latin typeface="Kristen ITC"/>
              </a:rPr>
              <a:t>pay attention</a:t>
            </a:r>
            <a:r>
              <a:rPr b="0" lang="en-US" sz="6000" spc="-1" strike="noStrike">
                <a:solidFill>
                  <a:srgbClr val="4d4d4d"/>
                </a:solidFill>
                <a:latin typeface="Kristen ITC"/>
              </a:rPr>
              <a:t> to </a:t>
            </a: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boring</a:t>
            </a:r>
            <a:r>
              <a:rPr b="0" lang="en-US" sz="6000" spc="-1" strike="noStrike">
                <a:solidFill>
                  <a:srgbClr val="4d4d4d"/>
                </a:solidFill>
                <a:latin typeface="Kristen ITC"/>
              </a:rPr>
              <a:t> th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103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4d4d4d"/>
                  </a:solidFill>
                  <a:latin typeface="Arial"/>
                </a:rPr>
                <a:t>  </a:t>
              </a:r>
              <a:r>
                <a:rPr b="0" lang="ru-RU" sz="5700" spc="-1" strike="noStrike">
                  <a:solidFill>
                    <a:srgbClr val="4d4d4d"/>
                  </a:solidFill>
                  <a:latin typeface="Arial"/>
                </a:rPr>
                <a:t> </a:t>
              </a:r>
              <a:r>
                <a:rPr b="0" lang="ru-RU" sz="1100" spc="-1" strike="noStrike">
                  <a:solidFill>
                    <a:srgbClr val="4d4d4d"/>
                  </a:solidFill>
                  <a:latin typeface="Arial"/>
                </a:rPr>
                <a:t>                                      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05" name="" descr="See full size image"/>
          <p:cNvPicPr/>
          <p:nvPr/>
        </p:nvPicPr>
        <p:blipFill>
          <a:blip r:embed="rId2"/>
          <a:stretch/>
        </p:blipFill>
        <p:spPr>
          <a:xfrm>
            <a:off x="609480" y="4648320"/>
            <a:ext cx="320040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107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4d4d4d"/>
                  </a:solidFill>
                  <a:latin typeface="Arial"/>
                </a:rPr>
                <a:t>  </a:t>
              </a:r>
              <a:r>
                <a:rPr b="0" lang="ru-RU" sz="5700" spc="-1" strike="noStrike">
                  <a:solidFill>
                    <a:srgbClr val="4d4d4d"/>
                  </a:solidFill>
                  <a:latin typeface="Arial"/>
                </a:rPr>
                <a:t> </a:t>
              </a:r>
              <a:r>
                <a:rPr b="0" lang="ru-RU" sz="1100" spc="-1" strike="noStrike">
                  <a:solidFill>
                    <a:srgbClr val="4d4d4d"/>
                  </a:solidFill>
                  <a:latin typeface="Arial"/>
                </a:rPr>
                <a:t>                               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09" name="" descr="See full size image"/>
          <p:cNvPicPr/>
          <p:nvPr/>
        </p:nvPicPr>
        <p:blipFill>
          <a:blip r:embed="rId3"/>
          <a:stretch/>
        </p:blipFill>
        <p:spPr>
          <a:xfrm>
            <a:off x="5181480" y="4648320"/>
            <a:ext cx="327672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Let’s Reason Together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What </a:t>
            </a:r>
            <a:r>
              <a:rPr b="0" lang="en-US" sz="3600" spc="-1" strike="noStrike">
                <a:solidFill>
                  <a:srgbClr val="c33314"/>
                </a:solidFill>
                <a:latin typeface="Kristen ITC"/>
              </a:rPr>
              <a:t>challenges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do teachers and students face when reading in the content are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Take a </a:t>
            </a: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time out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33314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33314"/>
                </a:solidFill>
                <a:latin typeface="Kristen ITC"/>
              </a:rPr>
              <a:t>Brainstorm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the possibilities with your table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83772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Challenges to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Reading in the Content Areas</a:t>
            </a:r>
            <a:br>
              <a:rPr sz="44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Reading Tra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Classroom/Curriculum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tudents avoid reading the text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tudents can’t read the text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Content Area Reading – Navigating through the text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87656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3314"/>
                </a:solidFill>
                <a:latin typeface="Kristen ITC"/>
              </a:rPr>
              <a:t>Elements of Textboo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hapter P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harts, Graphs, 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Foot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Glossaries,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Photos, Illustrations,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Questions,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Unit, Chapter, and Section H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peci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752480"/>
            <a:ext cx="350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3314"/>
                </a:solidFill>
                <a:latin typeface="Kristen ITC"/>
              </a:rPr>
              <a:t>Expository 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3314"/>
                </a:solidFill>
                <a:latin typeface="Kristen ITC"/>
              </a:rPr>
              <a:t>Structures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4d4d4d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Descrip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eque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ompare/Contras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ause/Effec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Problem/Solu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Question/Answ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From Challenges to Solu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ntegrating reading strategies into the teaching of science, social studies and math prepares students to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study new information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, helps them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learn new vocabulary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,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improves students’ comprehension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of textbooks and trade books, and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enables students to learn and think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with new ideas, concepts, and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Laura Robb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Kristen ITC"/>
              </a:rPr>
              <a:t>Brain Rule # 4: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Repeat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reme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33314"/>
                </a:solidFill>
                <a:latin typeface="Kristen ITC"/>
              </a:rPr>
              <a:t>Repeat</a:t>
            </a: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4800" spc="-1" strike="noStrike">
                <a:solidFill>
                  <a:srgbClr val="c33314"/>
                </a:solidFill>
                <a:latin typeface="Kristen ITC"/>
              </a:rPr>
              <a:t>reme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Repeat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Repeat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Classroom Support: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 Six </a:t>
            </a:r>
            <a:r>
              <a:rPr b="1" lang="en-US" sz="4000" spc="-1" strike="noStrike">
                <a:solidFill>
                  <a:srgbClr val="0033cc"/>
                </a:solidFill>
                <a:latin typeface="Kristen ITC"/>
              </a:rPr>
              <a:t>Coaching</a:t>
            </a: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02440" y="1686240"/>
            <a:ext cx="7538400" cy="4651200"/>
            <a:chOff x="802440" y="1686240"/>
            <a:chExt cx="7538400" cy="4651200"/>
          </a:xfrm>
        </p:grpSpPr>
        <p:sp>
          <p:nvSpPr>
            <p:cNvPr id="123" name="_s285702"/>
            <p:cNvSpPr/>
            <p:nvPr/>
          </p:nvSpPr>
          <p:spPr>
            <a:xfrm flipH="1" flipV="1">
              <a:off x="2757240" y="3430080"/>
              <a:ext cx="909720" cy="29268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_s285703"/>
            <p:cNvSpPr/>
            <p:nvPr/>
          </p:nvSpPr>
          <p:spPr>
            <a:xfrm>
              <a:off x="802440" y="2558520"/>
              <a:ext cx="2094840" cy="116244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Kristen ITC"/>
                </a:rPr>
                <a:t>Print/Information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Kristen ITC"/>
                </a:rPr>
                <a:t>Rich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Kristen ITC"/>
                </a:rPr>
                <a:t>Environmen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" name="_s285704"/>
            <p:cNvSpPr/>
            <p:nvPr/>
          </p:nvSpPr>
          <p:spPr>
            <a:xfrm flipH="1">
              <a:off x="2757240" y="4302720"/>
              <a:ext cx="909720" cy="29052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_s285705"/>
            <p:cNvSpPr/>
            <p:nvPr/>
          </p:nvSpPr>
          <p:spPr>
            <a:xfrm>
              <a:off x="802440" y="4302720"/>
              <a:ext cx="2094840" cy="116244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Kristen ITC"/>
                </a:rPr>
                <a:t>Leveled, 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Kristen ITC"/>
                </a:rPr>
                <a:t>Supported, 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Kristen ITC"/>
                </a:rPr>
                <a:t>Independent 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Kristen ITC"/>
                </a:rPr>
                <a:t>Reading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7" name="_s285706"/>
            <p:cNvSpPr/>
            <p:nvPr/>
          </p:nvSpPr>
          <p:spPr>
            <a:xfrm>
              <a:off x="4571640" y="4591800"/>
              <a:ext cx="0" cy="58284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8" name="_s285707"/>
            <p:cNvSpPr/>
            <p:nvPr/>
          </p:nvSpPr>
          <p:spPr>
            <a:xfrm>
              <a:off x="3523680" y="5174640"/>
              <a:ext cx="2095560" cy="116280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Kristen ITC"/>
                </a:rPr>
                <a:t>Differentiated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Kristen ITC"/>
                </a:rPr>
                <a:t>Instruction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" name="_s285708"/>
            <p:cNvSpPr/>
            <p:nvPr/>
          </p:nvSpPr>
          <p:spPr>
            <a:xfrm>
              <a:off x="5475960" y="4302720"/>
              <a:ext cx="909720" cy="29052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" name="_s285709"/>
            <p:cNvSpPr/>
            <p:nvPr/>
          </p:nvSpPr>
          <p:spPr>
            <a:xfrm>
              <a:off x="6246000" y="4302720"/>
              <a:ext cx="2094840" cy="116244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Kristen ITC"/>
                </a:rPr>
                <a:t>Higher-Order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Kristen ITC"/>
                </a:rPr>
                <a:t>Thinking Skills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" name="_s285710"/>
            <p:cNvSpPr/>
            <p:nvPr/>
          </p:nvSpPr>
          <p:spPr>
            <a:xfrm flipV="1">
              <a:off x="5475960" y="3430080"/>
              <a:ext cx="909720" cy="29268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" name="_s285711"/>
            <p:cNvSpPr/>
            <p:nvPr/>
          </p:nvSpPr>
          <p:spPr>
            <a:xfrm>
              <a:off x="6246000" y="2558520"/>
              <a:ext cx="2094840" cy="116244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Kristen ITC"/>
                </a:rPr>
                <a:t>Before/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Kristen ITC"/>
                </a:rPr>
                <a:t>During/After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Kristen ITC"/>
                </a:rPr>
                <a:t>Practices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" name="_s285712"/>
            <p:cNvSpPr/>
            <p:nvPr/>
          </p:nvSpPr>
          <p:spPr>
            <a:xfrm flipV="1">
              <a:off x="4571640" y="2849040"/>
              <a:ext cx="0" cy="58284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4" name="_s285713"/>
            <p:cNvSpPr/>
            <p:nvPr/>
          </p:nvSpPr>
          <p:spPr>
            <a:xfrm>
              <a:off x="3523680" y="1686240"/>
              <a:ext cx="2095560" cy="116280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risten ITC"/>
                </a:rPr>
                <a:t>Modeling of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risten ITC"/>
                </a:rPr>
                <a:t>Strategies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5" name="_s285714"/>
            <p:cNvSpPr/>
            <p:nvPr/>
          </p:nvSpPr>
          <p:spPr>
            <a:xfrm>
              <a:off x="3523680" y="3432600"/>
              <a:ext cx="2095560" cy="1162440"/>
            </a:xfrm>
            <a:prstGeom prst="ellipse">
              <a:avLst/>
            </a:prstGeom>
            <a:solidFill>
              <a:srgbClr val="49d7f9">
                <a:alpha val="50000"/>
              </a:srgbClr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33314"/>
                  </a:solidFill>
                  <a:latin typeface="Kristen ITC"/>
                </a:rPr>
                <a:t>Content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33314"/>
                  </a:solidFill>
                  <a:latin typeface="Kristen ITC"/>
                </a:rPr>
                <a:t>Area 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33314"/>
                  </a:solidFill>
                  <a:latin typeface="Kristen ITC"/>
                </a:rPr>
                <a:t>Teacher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#1 - Modeling of Strategi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Show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e teacher 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model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thinks a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Help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e teacher provides time for studen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Le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he teacher releases control graduall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moves students toward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Kristen ITC"/>
              </a:rPr>
              <a:t>Laura Robb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#2 - Before/During/After Practi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udents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set a purpose for reading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and build their prior knowledge befo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udents develop ways to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monitor and improve their comprehension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whil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udents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apply new information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to meaningful experiences afte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Kristen ITC"/>
              </a:rPr>
              <a:t>Rule # 1:</a:t>
            </a:r>
            <a:r>
              <a:rPr b="0" lang="en-US" sz="6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33314"/>
                </a:solidFill>
                <a:latin typeface="Kristen ITC"/>
              </a:rPr>
              <a:t>Exercise</a:t>
            </a:r>
            <a:r>
              <a:rPr b="0" lang="en-US" sz="6600" spc="-1" strike="noStrike">
                <a:solidFill>
                  <a:srgbClr val="000000"/>
                </a:solidFill>
                <a:latin typeface="Kristen ITC"/>
              </a:rPr>
              <a:t> boosts brain po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Before Read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a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a0000"/>
                </a:solidFill>
                <a:latin typeface="Kristen ITC"/>
              </a:rPr>
              <a:t>Before reading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a selection, students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preview the text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. Readers think about the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of the selection. They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make prediction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and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ponder question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. They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set expectation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about what information may be revealed in the text. They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skim for text structur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(headings, bold print, italicized words, illustrations and other visual presentations) that may reveal clues about the text. Readers think about the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author’s purpos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for writing the selection. They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set their own purpos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for reading. They scan their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background knowledg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for relevant information that may help them understand the text. Before reading strategies focus on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setting the stag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for reading comprehens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During Read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a0000"/>
                </a:solidFill>
                <a:latin typeface="Kristen ITC"/>
              </a:rPr>
              <a:t>During reading</a:t>
            </a:r>
            <a:r>
              <a:rPr b="1" lang="en-US" sz="2800" spc="-1" strike="noStrike">
                <a:solidFill>
                  <a:srgbClr val="aa0000"/>
                </a:solidFill>
                <a:latin typeface="Kristen ITC"/>
              </a:rPr>
              <a:t> strategies</a:t>
            </a: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focus on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problem-solving skill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readers use to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monitor their understanding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of the text. The strategies include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word attack skill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vocabulary work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visualizing detail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rereading for clarification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and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adjusting the pace of reading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in order to construct meaning. Readers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develop a repertoire of strategie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in order to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extract meaning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from tex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After Read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a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a0000"/>
                </a:solidFill>
                <a:latin typeface="Kristen ITC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2800" spc="-1" strike="noStrike">
                <a:solidFill>
                  <a:srgbClr val="aa0000"/>
                </a:solidFill>
                <a:latin typeface="Kristen ITC"/>
              </a:rPr>
              <a:t>reading</a:t>
            </a:r>
            <a:r>
              <a:rPr b="1" lang="en-US" sz="2800" spc="-1" strike="noStrike">
                <a:solidFill>
                  <a:srgbClr val="aa0000"/>
                </a:solidFill>
                <a:latin typeface="Kristen ITC"/>
              </a:rPr>
              <a:t> strategie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help students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read between and beyond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the lines. They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respond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to what was read. Readers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revisit a selection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to closely examine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elements of the text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to achieve deeper levels of understanding. For example, readers revisit the selection to determine the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essential details and theme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of the text. Revisit strategies help readers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respond to text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make connection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and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evaluate various aspect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of the se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Kristen ITC"/>
              </a:rPr>
              <a:t>Brain Rule # 5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Remember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Rep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33314"/>
                </a:solidFill>
                <a:latin typeface="Kristen ITC"/>
              </a:rPr>
              <a:t>Remember</a:t>
            </a: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4800" spc="-1" strike="noStrike">
                <a:solidFill>
                  <a:srgbClr val="c33314"/>
                </a:solidFill>
                <a:latin typeface="Kristen ITC"/>
              </a:rPr>
              <a:t>Repe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Remember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Rep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Remember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to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Assess/Activate/Build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Prior Knowledg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Preview/S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Think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Brain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Catego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Text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Graphic Organiz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24280" y="1627200"/>
            <a:ext cx="42674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Pos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Read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hared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Build Vocabulary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Improve Comprehen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Visual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Analy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In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Draw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Take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7242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elf-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Textbook C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Make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umm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Predi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Clar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Kristen ITC"/>
              </a:rPr>
              <a:t>Framing a Text to Help With Comprehens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hen teaching diffic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literature to adolesce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“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framing a text”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 help with comprehension is very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lease read the handout titl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“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Framing a Text”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nd score yourself on a scale of 1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Content Area Reading Strategie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c33314"/>
                </a:solidFill>
                <a:latin typeface="Kristen ITC"/>
              </a:rPr>
              <a:t>Twenty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 Thinking Strategies Readers Use to </a:t>
            </a: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Comprehend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n-US" sz="3600" spc="-1" strike="noStrike">
                <a:solidFill>
                  <a:srgbClr val="c33314"/>
                </a:solidFill>
                <a:latin typeface="Kristen ITC"/>
              </a:rPr>
              <a:t>Nonfiction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 Texts</a:t>
            </a:r>
            <a:br>
              <a:rPr sz="3600"/>
            </a:br>
            <a:r>
              <a:rPr b="1" lang="en-US" sz="3600" spc="-1" strike="noStrike">
                <a:solidFill>
                  <a:srgbClr val="4d4d4d"/>
                </a:solidFill>
                <a:latin typeface="Kristen ITC"/>
              </a:rPr>
              <a:t>(</a:t>
            </a:r>
            <a:r>
              <a:rPr b="1" lang="en-US" sz="2800" spc="-1" strike="noStrike">
                <a:solidFill>
                  <a:srgbClr val="4d4d4d"/>
                </a:solidFill>
                <a:latin typeface="Kristen ITC"/>
              </a:rPr>
              <a:t>Please take 5 minutes to navigate around this web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5029200"/>
            <a:ext cx="13492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Connect and Apply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New Knowledg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Re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k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Disc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ynthe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627200"/>
            <a:ext cx="42674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Paraphr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Role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Refl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Deb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Or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8728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a8756f"/>
                </a:solidFill>
                <a:uFillTx/>
                <a:latin typeface="Kristen ITC"/>
                <a:hlinkClick r:id="rId2"/>
              </a:rPr>
              <a:t>Reading Tools </a:t>
            </a: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to Support Instructional Practi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3520" y="1828800"/>
          <a:ext cx="8229600" cy="4618080"/>
        </p:xfrm>
        <a:graphic>
          <a:graphicData uri="http://schemas.openxmlformats.org/drawingml/2006/table">
            <a:tbl>
              <a:tblPr/>
              <a:tblGrid>
                <a:gridCol w="2819160"/>
                <a:gridCol w="2743200"/>
                <a:gridCol w="2667240"/>
              </a:tblGrid>
              <a:tr h="46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Anticipation Guides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K-W-L; K-W-H-L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Quick Write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Semantic Map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Admit/Exit Slip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roblem/Solu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Organizer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Flow Chart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Key Word/Topic Note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Think-Pair-Share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Main Idea/Detail Organizer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Reciprocal Teaching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enn Diagram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Discussion Web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Journal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Storyboard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Cause-Effect Organizer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Reflection Chart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Are your stud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ay out in </a:t>
            </a: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left field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hen reading content area text?!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If so, this class will hopefully help you bring them back to the </a:t>
            </a: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playing field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202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# 3 – Higher-Order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Thinking Skil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203184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In what ways m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we support teac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to ensure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move beyond recall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33314"/>
                </a:solidFill>
                <a:latin typeface="Kristen ITC"/>
              </a:rPr>
              <a:t>application, </a:t>
            </a: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analysis</a:t>
            </a:r>
            <a:r>
              <a:rPr b="0" lang="en-US" sz="3600" spc="-1" strike="noStrike">
                <a:solidFill>
                  <a:srgbClr val="c33314"/>
                </a:solidFill>
                <a:latin typeface="Kristen ITC"/>
              </a:rPr>
              <a:t>, synthesis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and </a:t>
            </a: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evaluation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of infor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8728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627200"/>
            <a:ext cx="84582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Brain Rule #6: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33314"/>
                </a:solidFill>
                <a:latin typeface="Kristen ITC"/>
              </a:rPr>
              <a:t>Sleep 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well,</a:t>
            </a:r>
            <a:r>
              <a:rPr b="0" lang="en-US" sz="5400" spc="-1" strike="noStrike">
                <a:solidFill>
                  <a:srgbClr val="c33314"/>
                </a:solidFill>
                <a:latin typeface="Kristen ITC"/>
              </a:rPr>
              <a:t>think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w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(Take 5 minutes to get in a quick cat nap!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orry just kidd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6201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505320" y="4572000"/>
            <a:ext cx="18698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12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# 4 - Differentiated Instru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Whole group; Small group; One on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caffol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Leveled tex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Multiple tex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Student ch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# 5 - Leveled, Supported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Independent Rea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rovides all students with access to text at their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independent reading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upports student learning through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upports student learning through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scaffolding of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upports student motivation through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content aligned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# 6 - Print/Information Rich Environ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ultiple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ntent word walls/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Reference materials/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Graphic Organi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urrent displays of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rimary sourc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odels and manipul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Kristen ITC"/>
              </a:rPr>
              <a:t>Brain Rule #7: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Stressed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brains </a:t>
            </a: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don’t learn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the same 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Teacher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Tex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Kristen ITC"/>
              </a:rPr>
              <a:t>Pre-game Warm-up -- Prior to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ssesses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Readabil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33314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Modifies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text if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dentifies Key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Vocabulary</a:t>
            </a:r>
            <a:r>
              <a:rPr b="0" lang="en-US" sz="32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&amp;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dentifies Expository</a:t>
            </a:r>
            <a:r>
              <a:rPr b="0" lang="en-US" sz="32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Tex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dentifies Relation to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Prior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152280"/>
            <a:ext cx="2819520" cy="990720"/>
          </a:xfrm>
          <a:prstGeom prst="rightArrow">
            <a:avLst>
              <a:gd name="adj1" fmla="val 50000"/>
              <a:gd name="adj2" fmla="val 71148"/>
            </a:avLst>
          </a:prstGeom>
          <a:solidFill>
            <a:srgbClr val="c3331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Analyz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Teacher    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Text:  Tex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Sc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problem-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experi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cause and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efinition/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chronologic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efinition/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cause and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compare/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question &amp;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228600"/>
            <a:ext cx="904680" cy="380880"/>
          </a:xfrm>
          <a:prstGeom prst="rightArrow">
            <a:avLst>
              <a:gd name="adj1" fmla="val 50000"/>
              <a:gd name="adj2" fmla="val 59381"/>
            </a:avLst>
          </a:prstGeom>
          <a:solidFill>
            <a:srgbClr val="c3331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Teacher    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Text:  Text Struc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graphic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vidence &amp;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ymbolic relationships &amp;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haract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oral &amp;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ym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gen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28600"/>
            <a:ext cx="904680" cy="380880"/>
          </a:xfrm>
          <a:prstGeom prst="rightArrow">
            <a:avLst>
              <a:gd name="adj1" fmla="val 50000"/>
              <a:gd name="adj2" fmla="val 59381"/>
            </a:avLst>
          </a:prstGeom>
          <a:solidFill>
            <a:srgbClr val="c33314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Kristen ITC"/>
              </a:rPr>
              <a:t>Literacy Matte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33314"/>
                </a:solidFill>
                <a:latin typeface="Kristen ITC"/>
              </a:rPr>
              <a:t>This useful web site 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is a great </a:t>
            </a:r>
            <a:r>
              <a:rPr b="0" lang="en-US" sz="4400" spc="-1" strike="noStrike">
                <a:solidFill>
                  <a:srgbClr val="4d4d4d"/>
                </a:solidFill>
                <a:latin typeface="Kristen ITC"/>
              </a:rPr>
              <a:t>link to</a:t>
            </a: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 Literacy Web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(Click on the Content Literacy tab and browse for a few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038480" y="4419720"/>
            <a:ext cx="10861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99600"/>
            <a:ext cx="75978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Kristen ITC"/>
              </a:rPr>
              <a:t>At the end of this presentation teachers should be able to help students</a:t>
            </a: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33314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3314"/>
                </a:solidFill>
                <a:latin typeface="Kristen ITC"/>
              </a:rPr>
              <a:t>Connect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what they already know about a subject to what they are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Kristen ITC"/>
              </a:rPr>
              <a:t>Make predictions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about what they will learn from the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33314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3314"/>
                </a:solidFill>
                <a:latin typeface="Kristen ITC"/>
              </a:rPr>
              <a:t>Ask questions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about what they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Kristen ITC"/>
              </a:rPr>
              <a:t>Identify important ideas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from the reading and </a:t>
            </a:r>
            <a:r>
              <a:rPr b="1" lang="en-US" sz="2400" spc="-1" strike="noStrike">
                <a:solidFill>
                  <a:srgbClr val="0033cc"/>
                </a:solidFill>
                <a:latin typeface="Kristen ITC"/>
              </a:rPr>
              <a:t>summarize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thos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33314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3314"/>
                </a:solidFill>
                <a:latin typeface="Kristen ITC"/>
              </a:rPr>
              <a:t>Use strategies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when encountering text they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Kristen ITC"/>
              </a:rPr>
              <a:t>Process the information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they read in an organized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20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Strategies of Effective Rea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Good readers are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active reader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From the outset they have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clear goal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in mind for their reading.  They constantly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evaluat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whether the text, and their reading of it, is meeting their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Good readers typically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look over the text before they read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, noting such things as the structure of the text and text sections that might be most relevant to their reading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s they read, good readers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frequently make predictions about their reading—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to read carefully, what to read quickly, what not to read, what to reread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Strategies of Effective Rea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Good readers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construct, revise, and question the meanings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they make as they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Good readers 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try to determine the meaning of unfamiliar words and concepts in the text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, and they deal with inconsistencies or gaps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hey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draw from, compare, and integrate their prior knowledge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with material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Strategies of Effective Rea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y think about the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author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of the text, their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style, beliefs, 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nd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 intention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historical milieu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y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monitor their understanding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of the text, making adjustments in their reading a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ey evaluate the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text’s quality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and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and react to the text in a range of ways, both intellectually and emotio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Good readers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read different kinds of text differ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Strategies of Effective Rea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en reading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narrative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good readers attend closely to the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setting and character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When reading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expository text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, these readers frequently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construct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and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revise summarie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of what they have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For good readers, text processing occurs not only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during “reading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” as we have traditionally defined it, but also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during short break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taken during reading, even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after the “reading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” itself has c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Comprehension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is a consuming, continuous, and complex activity, but one that, for good readers, is both satisfying and produ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Duke and Pearson, (200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8728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27200"/>
            <a:ext cx="83818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Brain Rule #8: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33314"/>
                </a:solidFill>
                <a:latin typeface="Kristen ITC"/>
              </a:rPr>
              <a:t>Stimulate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more of the </a:t>
            </a:r>
            <a:r>
              <a:rPr b="0" lang="en-US" sz="5400" spc="-1" strike="noStrike">
                <a:solidFill>
                  <a:srgbClr val="0033cc"/>
                </a:solidFill>
                <a:latin typeface="Kristen ITC"/>
              </a:rPr>
              <a:t>sen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1253880" cy="1378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981080" y="4876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429000" y="4800600"/>
            <a:ext cx="190512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638680" y="4876920"/>
            <a:ext cx="1646280" cy="1315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7543800" y="403848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Best Practice Instruction of Read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nformational texts permeate our everyday lives. To become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reflective reader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and writers, students need extensive and intensive experience with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engaging, high-interest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selections. Strategies need to be modeled through many examples. Students need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guided practice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Kristen ITC"/>
              </a:rPr>
              <a:t>authentic reading materials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as they are learning how to use each strategy. They also need opportunities for </a:t>
            </a:r>
            <a:r>
              <a:rPr b="0" lang="en-US" sz="2800" spc="-1" strike="noStrike">
                <a:solidFill>
                  <a:srgbClr val="c33314"/>
                </a:solidFill>
                <a:latin typeface="Kristen ITC"/>
              </a:rPr>
              <a:t>independent application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of the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8728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627200"/>
            <a:ext cx="97534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Brain Rule #9: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33314"/>
                </a:solidFill>
                <a:latin typeface="Kristen ITC"/>
              </a:rPr>
              <a:t>Vision </a:t>
            </a:r>
            <a:r>
              <a:rPr b="0" lang="en-US" sz="5400" spc="-1" strike="noStrike">
                <a:solidFill>
                  <a:srgbClr val="0033cc"/>
                </a:solidFill>
                <a:latin typeface="Kristen ITC"/>
              </a:rPr>
              <a:t>trumps</a:t>
            </a:r>
            <a:r>
              <a:rPr b="0" lang="en-US" sz="5400" spc="-1" strike="noStrike">
                <a:solidFill>
                  <a:srgbClr val="c33314"/>
                </a:solidFill>
                <a:latin typeface="Kristen ITC"/>
              </a:rPr>
              <a:t> </a:t>
            </a:r>
            <a:r>
              <a:rPr b="0" lang="en-US" sz="5400" spc="-1" strike="noStrike">
                <a:solidFill>
                  <a:srgbClr val="4d4d4d"/>
                </a:solidFill>
                <a:latin typeface="Kristen ITC"/>
              </a:rPr>
              <a:t>all other</a:t>
            </a:r>
            <a:r>
              <a:rPr b="0" lang="en-US" sz="5400" spc="-1" strike="noStrike">
                <a:solidFill>
                  <a:srgbClr val="c33314"/>
                </a:solidFill>
                <a:latin typeface="Kristen ITC"/>
              </a:rPr>
              <a:t> sen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809880" y="4648320"/>
            <a:ext cx="18543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09480" y="137160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dolescents entering the adult world in the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21st century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will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read and write mor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than at any other time in human history.  They will need advanced levels of literacy to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 perform their job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,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run their households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, act as citizen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, and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conduct their personal liv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.  They will need literacy to cope with the flood of information they will find everywhere they turn.  They will need literacy to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feed their imagination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so they can create the world of the future.  In a complex and sometimes even dangerous world, their ability to read will be crucial. 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Continual instruction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beyond the early grades is needed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----Moore, Bean, Birdyshaw, &amp; Rycik, 1999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Literacy in the 21</a:t>
            </a:r>
            <a:r>
              <a:rPr b="1" lang="en-US" sz="3600" spc="-1" strike="noStrike" baseline="30000">
                <a:solidFill>
                  <a:srgbClr val="0033cc"/>
                </a:solidFill>
                <a:latin typeface="Kristen ITC"/>
              </a:rPr>
              <a:t>st</a:t>
            </a: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 Centu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Kristen ITC"/>
              </a:rPr>
              <a:t>Current Research 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Because of our nation’s testing mania, students are suffering under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“instruction that is overly thin and broad”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(Pianta et al. 200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Our edge – our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creativity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– is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slipping away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hile our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competitors are making concerted efforts to expand the thinking of their student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,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American Educational Reform is mandating thinner and broade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e are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intentionally surrendering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our “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secret weapon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,” and in doing so, we are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killing readers along the way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        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c33314"/>
                </a:solidFill>
                <a:latin typeface="Kristen ITC"/>
              </a:rPr>
              <a:t>---Readicide, Kelly Gallagher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Kristen ITC"/>
              </a:rPr>
              <a:t>Brain Rule #10:</a:t>
            </a:r>
            <a:r>
              <a:rPr b="0" lang="en-US" sz="6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Kristen ITC"/>
              </a:rPr>
              <a:t>Male</a:t>
            </a: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 </a:t>
            </a:r>
            <a:r>
              <a:rPr b="0" lang="en-US" sz="6000" spc="-1" strike="noStrike">
                <a:solidFill>
                  <a:srgbClr val="4d4d4d"/>
                </a:solidFill>
                <a:latin typeface="Kristen ITC"/>
              </a:rPr>
              <a:t>and</a:t>
            </a: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 female </a:t>
            </a:r>
            <a:r>
              <a:rPr b="0" lang="en-US" sz="6000" spc="-1" strike="noStrike">
                <a:solidFill>
                  <a:srgbClr val="4d4d4d"/>
                </a:solidFill>
                <a:latin typeface="Kristen ITC"/>
              </a:rPr>
              <a:t>brains are</a:t>
            </a:r>
            <a:r>
              <a:rPr b="0" lang="en-US" sz="6000" spc="-1" strike="noStrike">
                <a:solidFill>
                  <a:srgbClr val="c33314"/>
                </a:solidFill>
                <a:latin typeface="Kristen ITC"/>
              </a:rPr>
              <a:t> </a:t>
            </a:r>
            <a:r>
              <a:rPr b="0" lang="en-US" sz="6000" spc="-1" strike="noStrike">
                <a:solidFill>
                  <a:srgbClr val="9614c4"/>
                </a:solidFill>
                <a:latin typeface="Kristen ITC"/>
              </a:rPr>
              <a:t>differ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Kristen ITC"/>
              </a:rPr>
              <a:t>What’s the Game Plan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o do this, </a:t>
            </a: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teachers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will need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Review the 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critical skills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needed to become competent, strategic rea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come familiar with new </a:t>
            </a: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before, during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nd </a:t>
            </a: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rea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ecome familiar with 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available resources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to develop better comprehension and vocabula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Learn what 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current research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says about best practices for content area reading instruction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Female"/>
          <p:cNvPicPr/>
          <p:nvPr/>
        </p:nvPicPr>
        <p:blipFill>
          <a:blip r:embed="rId2"/>
          <a:stretch/>
        </p:blipFill>
        <p:spPr>
          <a:xfrm>
            <a:off x="1676520" y="15238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Kristen ITC"/>
              </a:rPr>
              <a:t>The Female Brai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Kristen ITC"/>
              </a:rPr>
              <a:t>The Male Brai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71629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Professional Develop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nk about the information, instructional practices, and specific strategies that have been shared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Now, think about the data, teachers, and students from your particular school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In what ways could you provide support to meet the diverse needs of teachers and support student learning in the content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8728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Kristen ITC"/>
              </a:rPr>
              <a:t>Books That Support Literacy in the Content Area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429000" y="2743200"/>
            <a:ext cx="21668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Kristen ITC"/>
              </a:rPr>
              <a:t>Think Outside the Box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I challenge you to </a:t>
            </a:r>
            <a:r>
              <a:rPr b="0" lang="en-US" sz="3600" spc="-1" strike="noStrike">
                <a:solidFill>
                  <a:srgbClr val="c33314"/>
                </a:solidFill>
                <a:latin typeface="Kristen ITC"/>
              </a:rPr>
              <a:t>“think outside the box”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and bring back the </a:t>
            </a: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rigor</a:t>
            </a: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 to teaching and learning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24280" y="1627200"/>
            <a:ext cx="4267440" cy="4826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Escalator Temporarily Stairs."/>
          <p:cNvPicPr/>
          <p:nvPr/>
        </p:nvPicPr>
        <p:blipFill>
          <a:blip r:embed="rId3"/>
          <a:stretch/>
        </p:blipFill>
        <p:spPr>
          <a:xfrm>
            <a:off x="6172200" y="320040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Kristen ITC"/>
              </a:rPr>
              <a:t>Brain Rul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Brain Rule # 2</a:t>
            </a: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risten ITC"/>
              </a:rPr>
              <a:t>Every brain is </a:t>
            </a:r>
            <a:r>
              <a:rPr b="0" lang="en-US" sz="5400" spc="-1" strike="noStrike">
                <a:solidFill>
                  <a:srgbClr val="c33314"/>
                </a:solidFill>
                <a:latin typeface="Kristen ITC"/>
              </a:rPr>
              <a:t>wired different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90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4d4d4d"/>
                  </a:solidFill>
                  <a:latin typeface="Arial"/>
                </a:rPr>
                <a:t>  </a:t>
              </a:r>
              <a:r>
                <a:rPr b="0" lang="ru-RU" sz="5700" spc="-1" strike="noStrike">
                  <a:solidFill>
                    <a:srgbClr val="4d4d4d"/>
                  </a:solidFill>
                  <a:latin typeface="Arial"/>
                </a:rPr>
                <a:t> </a:t>
              </a:r>
              <a:r>
                <a:rPr b="0" lang="ru-RU" sz="1100" spc="-1" strike="noStrike">
                  <a:solidFill>
                    <a:srgbClr val="4d4d4d"/>
                  </a:solidFill>
                  <a:latin typeface="Arial"/>
                </a:rPr>
                <a:t>                              </a:t>
              </a:r>
              <a:endParaRPr b="0" lang="en-US" sz="11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Full-size image"/>
          <p:cNvPicPr/>
          <p:nvPr/>
        </p:nvPicPr>
        <p:blipFill>
          <a:blip r:embed="rId2"/>
          <a:stretch/>
        </p:blipFill>
        <p:spPr>
          <a:xfrm>
            <a:off x="1295280" y="13716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Left Brain, Right Bra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Kristen ITC"/>
              </a:rPr>
              <a:t>Content Area Rea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refers to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challenge of reading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in the academic areas such as </a:t>
            </a: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science, social studies, mathematics, literature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and the </a:t>
            </a:r>
            <a:r>
              <a:rPr b="0" lang="en-US" sz="4000" spc="-1" strike="noStrike">
                <a:solidFill>
                  <a:srgbClr val="c33314"/>
                </a:solidFill>
                <a:latin typeface="Kristen ITC"/>
              </a:rPr>
              <a:t>arts</a:t>
            </a: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1447920"/>
            <a:ext cx="746784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“…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more than personally </a:t>
            </a: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reacting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 to a text; it is, instead,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interacting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 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with the text, </a:t>
            </a: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reasoning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 with it to develop a hypothesis and justify it.  By using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accurate facts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 and </a:t>
            </a: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inferences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 from the text, readers can transform interpretations into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valid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 and </a:t>
            </a: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reasonable</a:t>
            </a:r>
            <a:r>
              <a:rPr b="0" lang="en-US" sz="3200" spc="-1" strike="noStrike">
                <a:solidFill>
                  <a:srgbClr val="c33314"/>
                </a:solidFill>
                <a:latin typeface="Kristen ITC"/>
              </a:rPr>
              <a:t> </a:t>
            </a:r>
            <a:r>
              <a:rPr b="1" lang="en-US" sz="3200" spc="-1" strike="noStrike">
                <a:solidFill>
                  <a:srgbClr val="c33314"/>
                </a:solidFill>
                <a:latin typeface="Kristen ITC"/>
              </a:rPr>
              <a:t>thought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.”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 </a:t>
            </a:r>
            <a:r>
              <a:rPr b="0" lang="en-US" sz="3200" spc="-1" strike="noStrike">
                <a:solidFill>
                  <a:srgbClr val="4d4d4d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4d4d4d"/>
                </a:solidFill>
                <a:latin typeface="Kristen ITC"/>
              </a:rPr>
              <a:t>----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uise Rosenblatt, 1978; 198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26240" y="243000"/>
            <a:ext cx="358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Kristen ITC"/>
              </a:rPr>
              <a:t>Reading Is…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root</cp:lastModifiedBy>
  <cp:lastPrinted>2008-08-25T19:21:40Z</cp:lastPrinted>
  <dcterms:modified xsi:type="dcterms:W3CDTF">2009-06-15T20:21:05Z</dcterms:modified>
  <cp:revision>114</cp:revision>
  <dc:subject/>
  <dc:title>PowerPoint Template</dc:title>
</cp:coreProperties>
</file>